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7D06-A11A-4C4C-B748-D76F4B9E6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D921-B21C-4163-B6F2-B1CC9622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5F5E-45DD-4028-8671-3745C913F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ACA9-0CAE-47F1-802A-0980DD54C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7CB4-88DC-488A-B0FA-EBAB06E54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BEC0-5462-447F-946B-5DF7B0FD0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C5BA-DCA5-479F-9EEC-33CE61D36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6F39-9B31-4296-95FA-D8E379330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DBCD-59F0-4325-AA6F-60EC4AF2A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D1F9-B132-42AE-A85D-7C687065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E00C-8B04-45C7-837A-9E05903E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11EF-8672-4D40-A4C4-10368F2E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0F5DD-38E7-435D-94AE-1515CD6BA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Graphical Analysis of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e will be turning graphs into words and numbers, as well as numbers and words into graph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he Essential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What is the value of a grap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Unit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66"/>
                </a:solidFill>
                <a:latin typeface="Arial"/>
              </a:rPr>
              <a:t>How are velocity and acceleration rel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66"/>
                </a:solidFill>
                <a:latin typeface="Arial"/>
              </a:rPr>
              <a:t>How are velocity, distance &amp; time rel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ontent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at does constant acceleration look like on a velocity time grap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w can you find velocity from a position time grap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w do you determine displacement on a position vs. time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rior Knowledge Inven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00"/>
                </a:solidFill>
                <a:latin typeface="Arial"/>
              </a:rPr>
              <a:t>In order to best serve you, I need to know what you already k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00"/>
                </a:solidFill>
                <a:latin typeface="Arial"/>
              </a:rPr>
              <a:t>I’m also interested in how well you understand new material and how you learn b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here do you want to be in ten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33"/>
                </a:solidFill>
                <a:latin typeface="Arial"/>
              </a:rPr>
              <a:t>High school is a forum for you to explore a variety of disciplines and determine what you will be doing after grad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33"/>
                </a:solidFill>
                <a:latin typeface="Arial"/>
              </a:rPr>
              <a:t>The more involved you are in high school life and the more thought you give to what you hope to become, the more relevant your education will be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eacher’s R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Arial"/>
              </a:rPr>
              <a:t>I believe that one of my biggest goals is to help prepare you for whatever it is you want to do after high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Arial"/>
              </a:rPr>
              <a:t>The more I know about you and what you want out of life, the easier it will be for me to assist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o… what’s the unit going to look li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Day 1:  Unstructured period learning about the sensors and softw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Days 2-5:  Structured Labs and Problem Solv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Days 6-9:  Structured Labs/Designing Lab or your choice w/part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Day 10:  Present what you’ve learned to the rest of the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3T19:52:07Z</dcterms:created>
  <dc:creator>default student</dc:creator>
  <dc:description/>
  <dc:language>en-US</dc:language>
  <cp:lastModifiedBy>default student</cp:lastModifiedBy>
  <dcterms:modified xsi:type="dcterms:W3CDTF">2010-08-06T16:35:58Z</dcterms:modified>
  <cp:revision>5</cp:revision>
  <dc:subject/>
  <dc:title>Graphical Analysis of Motion</dc:title>
</cp:coreProperties>
</file>